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EC86-7B4D-4F0D-9841-B9528D9C6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3353-2239-4598-82B8-6F2A453F2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E6ED-39B9-4AEF-AD9D-90CCF61CF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7CA7-9FE0-47E1-9712-20AEE4C25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4252-1450-4662-B5A9-8F43FF5EE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8082-04F7-4ABD-8F1E-AF81D1370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039D-DB5F-4626-A3C8-7EEB0665E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5437-4994-4DE9-B654-4ED12C212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9760-8B38-4629-A9AD-946538A6A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2B06-2110-4417-A939-E1E4331B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44C7-8D7F-45B2-B6BB-9B6C3DB7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BF91-2201-4783-A8E7-DE444D28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3A5CF-39CF-4A42-BFF8-92EF5189EB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49AEE-A101-4F09-8B3B-3E7DCA21C4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ASOCIACIÓN ARGENTINA DE ESTUDIOS FIS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CICLO INTRODUCTORIO A LA ESPECIALIDAD TRIBU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Primer semestre 20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24/04/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IMPUESTO AL VALOR AGREG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Times New Roman"/>
              </a:rPr>
              <a:t>Pablo Andres Robledo y Angel Pere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380880" y="380880"/>
            <a:ext cx="8305920" cy="586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8A029-C18B-4FA8-8173-BF629D3574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1116000" y="692280"/>
            <a:ext cx="8207280" cy="72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jetos del exteri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ortador, prestatario, responsable sustit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rsonas hum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nores de edad / incap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usante///Herederos (Neutral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pons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dres, tutores y cu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erederos, administ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deuda propia y/o aje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B337C-8DEB-49E8-9FB4-7E7A8F5082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660240" y="9907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425520" y="1360440"/>
            <a:ext cx="19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4"/>
          <p:cNvSpPr/>
          <p:nvPr/>
        </p:nvSpPr>
        <p:spPr>
          <a:xfrm>
            <a:off x="2824200" y="1593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267360" y="128592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8"/>
          <p:cNvSpPr/>
          <p:nvPr/>
        </p:nvSpPr>
        <p:spPr>
          <a:xfrm>
            <a:off x="2824200" y="159372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89720" y="2158920"/>
            <a:ext cx="1972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Crédito Fisc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228600" y="228600"/>
            <a:ext cx="861048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441360" y="27000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1 Rectángulo"/>
          <p:cNvSpPr/>
          <p:nvPr/>
        </p:nvSpPr>
        <p:spPr>
          <a:xfrm>
            <a:off x="4692600" y="128124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venta a tercer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Débito Fiscal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1 Rectángulo"/>
          <p:cNvSpPr/>
          <p:nvPr/>
        </p:nvSpPr>
        <p:spPr>
          <a:xfrm>
            <a:off x="736560" y="2805120"/>
            <a:ext cx="35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mpr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2 Rectángulo"/>
          <p:cNvSpPr/>
          <p:nvPr/>
        </p:nvSpPr>
        <p:spPr>
          <a:xfrm>
            <a:off x="746280" y="334152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4"/>
          <p:cNvSpPr/>
          <p:nvPr/>
        </p:nvSpPr>
        <p:spPr>
          <a:xfrm>
            <a:off x="2976480" y="3635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8"/>
          <p:cNvSpPr/>
          <p:nvPr/>
        </p:nvSpPr>
        <p:spPr>
          <a:xfrm>
            <a:off x="2995560" y="363528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1 Rectángulo"/>
          <p:cNvSpPr/>
          <p:nvPr/>
        </p:nvSpPr>
        <p:spPr>
          <a:xfrm>
            <a:off x="4511520" y="340344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1 Rectángulo"/>
          <p:cNvSpPr/>
          <p:nvPr/>
        </p:nvSpPr>
        <p:spPr>
          <a:xfrm>
            <a:off x="4576680" y="411480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del vendedor (Proveedo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262680" y="332748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 rot="1483800">
            <a:off x="3363120" y="4052880"/>
            <a:ext cx="6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ci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21 Rectángulo"/>
          <p:cNvSpPr/>
          <p:nvPr/>
        </p:nvSpPr>
        <p:spPr>
          <a:xfrm>
            <a:off x="704520" y="4659480"/>
            <a:ext cx="47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/ Compras – nombre y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22 Rectángulo"/>
          <p:cNvSpPr/>
          <p:nvPr/>
        </p:nvSpPr>
        <p:spPr>
          <a:xfrm>
            <a:off x="753480" y="5157720"/>
            <a:ext cx="259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nombre de terc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4"/>
          <p:cNvSpPr/>
          <p:nvPr/>
        </p:nvSpPr>
        <p:spPr>
          <a:xfrm>
            <a:off x="3348000" y="53420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648600" y="503064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1 Rectángulo"/>
          <p:cNvSpPr/>
          <p:nvPr/>
        </p:nvSpPr>
        <p:spPr>
          <a:xfrm>
            <a:off x="4735440" y="5176800"/>
            <a:ext cx="304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por comisión (al mandan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7F6BA-73DC-477C-8087-D5B149F5F8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212120" y="2174760"/>
            <a:ext cx="4314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asoci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grupamientos de profes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en particip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51B20-B97C-4B90-B58C-515C6A5E9D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761760" y="35053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 em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274560" y="28954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tura a terce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294360" y="3962520"/>
            <a:ext cx="46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 a sus integr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964800" y="5299200"/>
            <a:ext cx="570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eficiente acumulación de créditos fis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7"/>
          <p:cNvSpPr/>
          <p:nvPr/>
        </p:nvSpPr>
        <p:spPr>
          <a:xfrm>
            <a:off x="2666880" y="3200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8"/>
          <p:cNvSpPr/>
          <p:nvPr/>
        </p:nvSpPr>
        <p:spPr>
          <a:xfrm>
            <a:off x="26668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9"/>
          <p:cNvSpPr/>
          <p:nvPr/>
        </p:nvSpPr>
        <p:spPr>
          <a:xfrm>
            <a:off x="2666880" y="3200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06507-6A37-4585-8CFF-F80514E3BC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977040" y="32418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4"/>
          <p:cNvSpPr/>
          <p:nvPr/>
        </p:nvSpPr>
        <p:spPr>
          <a:xfrm>
            <a:off x="1981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504240" y="3276720"/>
            <a:ext cx="25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207520" y="4572000"/>
            <a:ext cx="328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lor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tes sin fines de luc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C766C-C7CA-45E8-8651-1C93C158B7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1497240" y="1717560"/>
            <a:ext cx="199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 p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5579640" y="1676520"/>
            <a:ext cx="224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trucción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4"/>
          <p:cNvSpPr/>
          <p:nvPr/>
        </p:nvSpPr>
        <p:spPr>
          <a:xfrm>
            <a:off x="4114800" y="205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5"/>
          <p:cNvSpPr/>
          <p:nvPr/>
        </p:nvSpPr>
        <p:spPr>
          <a:xfrm>
            <a:off x="4114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6"/>
          <p:cNvSpPr/>
          <p:nvPr/>
        </p:nvSpPr>
        <p:spPr>
          <a:xfrm flipH="1">
            <a:off x="4343040" y="17524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650560" y="41497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21/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8"/>
          <p:cNvSpPr/>
          <p:nvPr/>
        </p:nvSpPr>
        <p:spPr>
          <a:xfrm>
            <a:off x="255600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608400" y="3043080"/>
            <a:ext cx="38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hay venta, es adjud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255600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1475280" y="41911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47/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324000" y="404640"/>
            <a:ext cx="84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228600" y="304920"/>
            <a:ext cx="861048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673272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5391720" y="3043080"/>
            <a:ext cx="26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lidad ec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6"/>
          <p:cNvSpPr/>
          <p:nvPr/>
        </p:nvSpPr>
        <p:spPr>
          <a:xfrm>
            <a:off x="673272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684360" y="5348160"/>
            <a:ext cx="50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Fideicomis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79D61-6567-4E56-B966-2534909929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rato en participacion</a:t>
            </a:r>
            <a:br>
              <a:rPr sz="2800"/>
            </a:b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(Sociedad Accident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197000" y="2631960"/>
            <a:ext cx="41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col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 - socio gesto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relación asociativa oculta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40EE6-2BB6-43FF-AAA0-695B4CF26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Normas y antecedentes releva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84360" y="1125360"/>
            <a:ext cx="78483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. (AFIP) Nº 2854/10 (Retenciones IVA)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2408 (Percepciones IVA) y RG N° 2937 (Percep.Import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° 2226 (Certificacados de exclusió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689 (Entes colectivos de profesiona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Fallo CSJN “Central Neuquen S.A y otros  c/ Prov. Bs. As. Acción declarativa” 16/04/2002. Fallo CNCAF “Ctral Termica Loma de la Lata” 12/3/202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20/94 Menores de 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18/96 (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4/2001 (Transferencia de participaciones 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78/94 (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70/2002 Contrato de maquila (art. Nota externa DGI 4/98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J) Nº 41/85 Consorcios de construcción (condominio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21/95 Construcción en condomini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L) Nº 19/98 Sociedades accidental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.G. (AFIP) 1032 (Condominios. Locación de inmueb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55/05; (DAT) 16/06 y (DAT) 18/06 (Fideicomisos. Transferencias y adjudic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304920" y="304920"/>
            <a:ext cx="853416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15:37:37Z</dcterms:created>
  <dc:creator>Ernst &amp; Young</dc:creator>
  <dc:description/>
  <dc:language>en-US</dc:language>
  <cp:lastModifiedBy>Angel Pereira</cp:lastModifiedBy>
  <dcterms:modified xsi:type="dcterms:W3CDTF">2024-04-23T15:29:24Z</dcterms:modified>
  <cp:revision>217</cp:revision>
  <dc:subject/>
  <dc:title>ASOCIACION ARGENTINA DE ESTUDIOS FISCALES</dc:title>
</cp:coreProperties>
</file>